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1.jpeg" ContentType="image/jpeg"/>
  <Override PartName="/ppt/media/image9.jpeg" ContentType="image/jpeg"/>
  <Override PartName="/ppt/media/image17.png" ContentType="image/png"/>
  <Override PartName="/ppt/media/image15.jpeg" ContentType="image/jpeg"/>
  <Override PartName="/ppt/media/image16.wmf" ContentType="image/x-wmf"/>
  <Override PartName="/ppt/media/image14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18.wmf" ContentType="image/x-wmf"/>
  <Override PartName="/ppt/media/image5.jpeg" ContentType="image/jpeg"/>
  <Override PartName="/ppt/media/image6.png" ContentType="image/png"/>
  <Override PartName="/ppt/media/image12.jpeg" ContentType="image/jpeg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E6E38-5268-4B22-9A5C-C1960FDC7EF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1447-F05F-4E97-ABC2-92F757506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E6F6-C9C4-482D-B3AB-900E133C7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8E2E-51D6-47F2-81AE-7979B1DD5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5058-5C8D-4648-AAF8-07FCAE78C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3408-D2F1-4A2C-9DFC-5A7E37BCE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B61A-1710-4E78-8D3D-308F67EF5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B169-04F6-4921-ABEF-BE5E15069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362F-F04F-4899-8FFE-53704DCC6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EA86-B2C5-4EB9-AF7F-F16E6E3EC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EC25-329B-4E12-B75B-37E9059C1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A084-F8EB-4273-9813-E1B9AE263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8EA5-D3B0-4269-AD8F-93104A493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27350-88DC-400D-9703-382E634A779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16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430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年级  高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学科  英语   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1BU22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Rescuing the temple (B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播放时间   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6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月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日 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(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星期四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)  9:10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讲课教师   </a:t>
            </a:r>
            <a:r>
              <a:rPr b="1" lang="zh-CN" sz="3600" spc="-1" strike="noStrike">
                <a:solidFill>
                  <a:srgbClr val="ffff66"/>
                </a:solidFill>
                <a:latin typeface="宋体"/>
              </a:rPr>
              <a:t>赖丽燕  人民大学附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at is the film abou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603080" y="3200400"/>
            <a:ext cx="5234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It is about the rescue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Abu Simbe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0720" y="1295280"/>
            <a:ext cx="69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ccff"/>
                </a:solidFill>
                <a:latin typeface="Times New Roman"/>
              </a:rPr>
              <a:t>Answer the questio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523880" y="2133720"/>
            <a:ext cx="61722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ow was the temple move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WHATNOW" descr=""/>
          <p:cNvPicPr/>
          <p:nvPr/>
        </p:nvPicPr>
        <p:blipFill>
          <a:blip r:embed="rId1"/>
          <a:stretch/>
        </p:blipFill>
        <p:spPr>
          <a:xfrm>
            <a:off x="6095880" y="2971800"/>
            <a:ext cx="1390680" cy="19810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ccff"/>
                </a:solidFill>
                <a:latin typeface="Times New Roman"/>
              </a:rPr>
              <a:t>Answer the questio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603800" y="3124080"/>
            <a:ext cx="454536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e temple was move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stone by ston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67880" y="4971960"/>
            <a:ext cx="262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Times New Roman"/>
              </a:rPr>
              <a:t>Para 1  Line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1600200" y="1066680"/>
            <a:ext cx="60199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 Rounded MT Bold"/>
              </a:rPr>
              <a:t>The Rescue of  Abu  Simbel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Rounded MT Bold"/>
              <a:ea typeface="Arial Rounded MT Bold"/>
            </a:endParaRPr>
          </a:p>
        </p:txBody>
      </p:sp>
      <p:sp>
        <p:nvSpPr>
          <p:cNvPr id="81" name=""/>
          <p:cNvSpPr/>
          <p:nvPr/>
        </p:nvSpPr>
        <p:spPr>
          <a:xfrm>
            <a:off x="5638680" y="2209680"/>
            <a:ext cx="2210040" cy="3200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abu_sim5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743440" y="2362320"/>
            <a:ext cx="1994040" cy="28954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990720" y="2133720"/>
            <a:ext cx="48006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*move stone by st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*rebuild abo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*mark with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*carry t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94920" y="9903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ccff"/>
                </a:solidFill>
                <a:latin typeface="Times New Roman"/>
              </a:rPr>
              <a:t>Retelling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18960" y="205740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The whole temple was moved stone by stone </a:t>
            </a:r>
            <a:r>
              <a:rPr b="1" i="1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and 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built above the water level of the new lake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838080"/>
            <a:ext cx="6629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Times New Roman"/>
              </a:rPr>
              <a:t>Retelling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18960" y="15238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i="1" lang="zh-CN" sz="3600" spc="-1" strike="noStrike" u="sng">
                <a:solidFill>
                  <a:srgbClr val="ffff00"/>
                </a:solidFill>
                <a:uFillTx/>
                <a:latin typeface="Times New Roman"/>
              </a:rPr>
              <a:t>First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, each stone was marked with a number. </a:t>
            </a:r>
            <a:r>
              <a:rPr b="1" i="1" lang="zh-CN" sz="3600" spc="-1" strike="noStrike" u="sng">
                <a:solidFill>
                  <a:srgbClr val="ffff00"/>
                </a:solidFill>
                <a:uFillTx/>
                <a:latin typeface="Times New Roman"/>
              </a:rPr>
              <a:t>And then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, the pieces of stone were carried to the new place for the temple, 60 metres higher up the hill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ABU-R2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024680" cy="5268960"/>
          </a:xfrm>
          <a:prstGeom prst="rect">
            <a:avLst/>
          </a:prstGeom>
          <a:ln w="0">
            <a:noFill/>
          </a:ln>
        </p:spPr>
      </p:pic>
      <p:sp>
        <p:nvSpPr>
          <p:cNvPr id="89" name="">
            <a:hlinkClick r:id="" action="ppaction://hlinkshowjump?jump=nextslide"/>
          </p:cNvPr>
          <p:cNvSpPr/>
          <p:nvPr/>
        </p:nvSpPr>
        <p:spPr>
          <a:xfrm>
            <a:off x="5105520" y="2514600"/>
            <a:ext cx="761760" cy="274320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2743200"/>
              <a:gd name="textAreaBottom" fmla="*/ 2693880 h 2743200"/>
            </a:gdLst>
            <a:ahLst/>
            <a:rect l="textAreaLeft" t="textAreaTop" r="textAreaRight" b="textAreaBottom"/>
            <a:pathLst>
              <a:path w="21600" h="77758">
                <a:moveTo>
                  <a:pt x="0" y="0"/>
                </a:moveTo>
                <a:lnTo>
                  <a:pt x="21600" y="0"/>
                </a:lnTo>
                <a:lnTo>
                  <a:pt x="21600" y="77758"/>
                </a:lnTo>
                <a:lnTo>
                  <a:pt x="0" y="77758"/>
                </a:lnTo>
                <a:close/>
              </a:path>
              <a:path fill="lightenLess" w="21600" h="777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77758">
                <a:moveTo>
                  <a:pt x="21600" y="0"/>
                </a:moveTo>
                <a:lnTo>
                  <a:pt x="21600" y="77758"/>
                </a:lnTo>
                <a:lnTo>
                  <a:pt x="20200" y="76358"/>
                </a:lnTo>
                <a:lnTo>
                  <a:pt x="20200" y="1400"/>
                </a:lnTo>
                <a:close/>
              </a:path>
              <a:path fill="darkenLess" w="21600" h="77758">
                <a:moveTo>
                  <a:pt x="21600" y="77758"/>
                </a:moveTo>
                <a:lnTo>
                  <a:pt x="0" y="77758"/>
                </a:lnTo>
                <a:lnTo>
                  <a:pt x="1400" y="76358"/>
                </a:lnTo>
                <a:lnTo>
                  <a:pt x="20200" y="76358"/>
                </a:lnTo>
                <a:close/>
              </a:path>
              <a:path fill="lighten" w="21600" h="77758">
                <a:moveTo>
                  <a:pt x="0" y="77758"/>
                </a:moveTo>
                <a:lnTo>
                  <a:pt x="0" y="0"/>
                </a:lnTo>
                <a:lnTo>
                  <a:pt x="1400" y="1400"/>
                </a:lnTo>
                <a:lnTo>
                  <a:pt x="1400" y="7635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27560" y="499428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4223t013" descr=""/>
          <p:cNvPicPr/>
          <p:nvPr/>
        </p:nvPicPr>
        <p:blipFill>
          <a:blip r:embed="rId1"/>
          <a:srcRect l="0" t="0" r="0" b="5554"/>
          <a:stretch/>
        </p:blipFill>
        <p:spPr>
          <a:xfrm>
            <a:off x="1371600" y="457200"/>
            <a:ext cx="6705720" cy="5029200"/>
          </a:xfrm>
          <a:prstGeom prst="rect">
            <a:avLst/>
          </a:prstGeom>
          <a:ln w="0">
            <a:noFill/>
          </a:ln>
        </p:spPr>
      </p:pic>
      <p:sp>
        <p:nvSpPr>
          <p:cNvPr id="93" name="">
            <a:hlinkClick r:id="" action="ppaction://hlinkshowjump?jump=nextslide"/>
          </p:cNvPr>
          <p:cNvSpPr/>
          <p:nvPr/>
        </p:nvSpPr>
        <p:spPr>
          <a:xfrm>
            <a:off x="4724280" y="1371600"/>
            <a:ext cx="1143000" cy="4572000"/>
          </a:xfrm>
          <a:custGeom>
            <a:avLst/>
            <a:gdLst>
              <a:gd name="textAreaLeft" fmla="*/ 73800 w 1143000"/>
              <a:gd name="textAreaRight" fmla="*/ 1069200 w 1143000"/>
              <a:gd name="textAreaTop" fmla="*/ 73800 h 4572000"/>
              <a:gd name="textAreaBottom" fmla="*/ 4498200 h 4572000"/>
            </a:gdLst>
            <a:ahLst/>
            <a:rect l="textAreaLeft" t="textAreaTop" r="textAreaRight" b="textAreaBottom"/>
            <a:pathLst>
              <a:path w="21600" h="86380">
                <a:moveTo>
                  <a:pt x="0" y="0"/>
                </a:moveTo>
                <a:lnTo>
                  <a:pt x="21600" y="0"/>
                </a:lnTo>
                <a:lnTo>
                  <a:pt x="21600" y="86380"/>
                </a:lnTo>
                <a:lnTo>
                  <a:pt x="0" y="86380"/>
                </a:lnTo>
                <a:close/>
              </a:path>
              <a:path fill="lightenLess" w="21600" h="863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86380">
                <a:moveTo>
                  <a:pt x="21600" y="0"/>
                </a:moveTo>
                <a:lnTo>
                  <a:pt x="21600" y="86380"/>
                </a:lnTo>
                <a:lnTo>
                  <a:pt x="20200" y="84980"/>
                </a:lnTo>
                <a:lnTo>
                  <a:pt x="20200" y="1400"/>
                </a:lnTo>
                <a:close/>
              </a:path>
              <a:path fill="darkenLess" w="21600" h="86380">
                <a:moveTo>
                  <a:pt x="21600" y="86380"/>
                </a:moveTo>
                <a:lnTo>
                  <a:pt x="0" y="86380"/>
                </a:lnTo>
                <a:lnTo>
                  <a:pt x="1400" y="84980"/>
                </a:lnTo>
                <a:lnTo>
                  <a:pt x="20200" y="84980"/>
                </a:lnTo>
                <a:close/>
              </a:path>
              <a:path fill="lighten" w="21600" h="86380">
                <a:moveTo>
                  <a:pt x="0" y="86380"/>
                </a:moveTo>
                <a:lnTo>
                  <a:pt x="0" y="0"/>
                </a:lnTo>
                <a:lnTo>
                  <a:pt x="1400" y="1400"/>
                </a:lnTo>
                <a:lnTo>
                  <a:pt x="1400" y="8498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5181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00200" y="5334120"/>
            <a:ext cx="6097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ut into pieces, mark with</a:t>
            </a:r>
            <a:br>
              <a:rPr sz="44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ut…into, mark…wi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236232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y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ut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the figure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to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piec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y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mark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each stone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with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a numb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10014601" descr=""/>
          <p:cNvPicPr/>
          <p:nvPr/>
        </p:nvPicPr>
        <p:blipFill>
          <a:blip r:embed="rId1"/>
          <a:stretch/>
        </p:blipFill>
        <p:spPr>
          <a:xfrm>
            <a:off x="2354400" y="533520"/>
            <a:ext cx="5046480" cy="5105160"/>
          </a:xfrm>
          <a:prstGeom prst="rect">
            <a:avLst/>
          </a:prstGeom>
          <a:ln w="0">
            <a:noFill/>
          </a:ln>
        </p:spPr>
      </p:pic>
      <p:sp>
        <p:nvSpPr>
          <p:cNvPr id="100" name="">
            <a:hlinkClick r:id="" action="ppaction://hlinkshowjump?jump=nextslide"/>
          </p:cNvPr>
          <p:cNvSpPr/>
          <p:nvPr/>
        </p:nvSpPr>
        <p:spPr>
          <a:xfrm>
            <a:off x="3505320" y="1676520"/>
            <a:ext cx="685800" cy="304776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3047760"/>
              <a:gd name="textAreaBottom" fmla="*/ 3003480 h 3047760"/>
            </a:gdLst>
            <a:ahLst/>
            <a:rect l="textAreaLeft" t="textAreaTop" r="textAreaRight" b="textAreaBottom"/>
            <a:pathLst>
              <a:path w="21600" h="95953">
                <a:moveTo>
                  <a:pt x="0" y="0"/>
                </a:moveTo>
                <a:lnTo>
                  <a:pt x="21600" y="0"/>
                </a:lnTo>
                <a:lnTo>
                  <a:pt x="21600" y="95953"/>
                </a:lnTo>
                <a:lnTo>
                  <a:pt x="0" y="95953"/>
                </a:lnTo>
                <a:close/>
              </a:path>
              <a:path fill="lightenLess" w="21600" h="9595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95953">
                <a:moveTo>
                  <a:pt x="21600" y="0"/>
                </a:moveTo>
                <a:lnTo>
                  <a:pt x="21600" y="95953"/>
                </a:lnTo>
                <a:lnTo>
                  <a:pt x="20200" y="94553"/>
                </a:lnTo>
                <a:lnTo>
                  <a:pt x="20200" y="1400"/>
                </a:lnTo>
                <a:close/>
              </a:path>
              <a:path fill="darkenLess" w="21600" h="95953">
                <a:moveTo>
                  <a:pt x="21600" y="95953"/>
                </a:moveTo>
                <a:lnTo>
                  <a:pt x="0" y="95953"/>
                </a:lnTo>
                <a:lnTo>
                  <a:pt x="1400" y="94553"/>
                </a:lnTo>
                <a:lnTo>
                  <a:pt x="20200" y="94553"/>
                </a:lnTo>
                <a:close/>
              </a:path>
              <a:path fill="lighten" w="21600" h="95953">
                <a:moveTo>
                  <a:pt x="0" y="95953"/>
                </a:moveTo>
                <a:lnTo>
                  <a:pt x="0" y="0"/>
                </a:lnTo>
                <a:lnTo>
                  <a:pt x="1400" y="1400"/>
                </a:lnTo>
                <a:lnTo>
                  <a:pt x="1400" y="9455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60680" y="5430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0" y="571500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arry to,    put toget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arry to,    put togethe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240" y="2361960"/>
            <a:ext cx="624852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pieces of stone were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arried to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the new place for the templ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y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ut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stones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gether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agai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egypt_back" descr=""/>
          <p:cNvPicPr/>
          <p:nvPr/>
        </p:nvPicPr>
        <p:blipFill>
          <a:blip r:embed="rId1"/>
          <a:stretch/>
        </p:blipFill>
        <p:spPr>
          <a:xfrm>
            <a:off x="3124080" y="3162240"/>
            <a:ext cx="3162600" cy="3695760"/>
          </a:xfrm>
          <a:prstGeom prst="rect">
            <a:avLst/>
          </a:prstGeom>
          <a:ln w="0">
            <a:noFill/>
          </a:ln>
        </p:spPr>
      </p:pic>
      <p:pic>
        <p:nvPicPr>
          <p:cNvPr id="51" name="egypt_back" descr=""/>
          <p:cNvPicPr/>
          <p:nvPr/>
        </p:nvPicPr>
        <p:blipFill>
          <a:blip r:embed="rId2"/>
          <a:stretch/>
        </p:blipFill>
        <p:spPr>
          <a:xfrm>
            <a:off x="3124080" y="0"/>
            <a:ext cx="3162600" cy="3695760"/>
          </a:xfrm>
          <a:prstGeom prst="rect">
            <a:avLst/>
          </a:prstGeom>
          <a:ln w="0">
            <a:noFill/>
          </a:ln>
        </p:spPr>
      </p:pic>
      <p:pic>
        <p:nvPicPr>
          <p:cNvPr id="52" name="egypt_back" descr=""/>
          <p:cNvPicPr/>
          <p:nvPr/>
        </p:nvPicPr>
        <p:blipFill>
          <a:blip r:embed="rId3"/>
          <a:stretch/>
        </p:blipFill>
        <p:spPr>
          <a:xfrm>
            <a:off x="0" y="3162240"/>
            <a:ext cx="3162240" cy="3695760"/>
          </a:xfrm>
          <a:prstGeom prst="rect">
            <a:avLst/>
          </a:prstGeom>
          <a:ln w="0">
            <a:noFill/>
          </a:ln>
        </p:spPr>
      </p:pic>
      <p:pic>
        <p:nvPicPr>
          <p:cNvPr id="53" name="egypt_back" descr=""/>
          <p:cNvPicPr/>
          <p:nvPr/>
        </p:nvPicPr>
        <p:blipFill>
          <a:blip r:embed="rId4"/>
          <a:stretch/>
        </p:blipFill>
        <p:spPr>
          <a:xfrm>
            <a:off x="0" y="0"/>
            <a:ext cx="3162240" cy="3695760"/>
          </a:xfrm>
          <a:prstGeom prst="rect">
            <a:avLst/>
          </a:prstGeom>
          <a:ln w="0">
            <a:noFill/>
          </a:ln>
        </p:spPr>
      </p:pic>
      <p:pic>
        <p:nvPicPr>
          <p:cNvPr id="54" name="egypt_back" descr=""/>
          <p:cNvPicPr/>
          <p:nvPr/>
        </p:nvPicPr>
        <p:blipFill>
          <a:blip r:embed="rId5"/>
          <a:stretch/>
        </p:blipFill>
        <p:spPr>
          <a:xfrm>
            <a:off x="5981760" y="3162240"/>
            <a:ext cx="3162240" cy="3695760"/>
          </a:xfrm>
          <a:prstGeom prst="rect">
            <a:avLst/>
          </a:prstGeom>
          <a:ln w="0">
            <a:noFill/>
          </a:ln>
        </p:spPr>
      </p:pic>
      <p:pic>
        <p:nvPicPr>
          <p:cNvPr id="55" name="egypt_back" descr=""/>
          <p:cNvPicPr/>
          <p:nvPr/>
        </p:nvPicPr>
        <p:blipFill>
          <a:blip r:embed="rId6"/>
          <a:stretch/>
        </p:blipFill>
        <p:spPr>
          <a:xfrm>
            <a:off x="5981760" y="0"/>
            <a:ext cx="3162240" cy="36957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1676520" y="2438280"/>
            <a:ext cx="58672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9080">
                  <a:solidFill>
                    <a:srgbClr val="000099"/>
                  </a:solidFill>
                  <a:miter/>
                </a:ln>
                <a:solidFill>
                  <a:srgbClr val="000066"/>
                </a:solidFill>
                <a:effectLst>
                  <a:outerShdw dist="153753" dir="2700000" blurRad="0" rotWithShape="0">
                    <a:srgbClr val="808080"/>
                  </a:outerShdw>
                </a:effectLst>
                <a:latin typeface="Garamond"/>
              </a:rPr>
              <a:t>Unit 23 Rescuing the temple</a:t>
            </a:r>
            <a:endParaRPr b="1" lang="en-US" sz="8000" spc="1" strike="noStrike">
              <a:ln w="19080">
                <a:solidFill>
                  <a:srgbClr val="000099"/>
                </a:solidFill>
                <a:miter/>
              </a:ln>
              <a:solidFill>
                <a:srgbClr val="000066"/>
              </a:solidFill>
              <a:effectLst>
                <a:outerShdw dist="153753" dir="2700000" blurRad="0" rotWithShape="0">
                  <a:srgbClr val="808080"/>
                </a:outerShdw>
              </a:effectLst>
              <a:latin typeface="Garamond"/>
              <a:ea typeface="Garamond"/>
            </a:endParaRPr>
          </a:p>
        </p:txBody>
      </p:sp>
      <p:sp>
        <p:nvSpPr>
          <p:cNvPr id="57" name=""/>
          <p:cNvSpPr/>
          <p:nvPr/>
        </p:nvSpPr>
        <p:spPr>
          <a:xfrm>
            <a:off x="3641760" y="4211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ABU-R2" descr=""/>
          <p:cNvPicPr/>
          <p:nvPr/>
        </p:nvPicPr>
        <p:blipFill>
          <a:blip r:embed="rId1"/>
          <a:stretch/>
        </p:blipFill>
        <p:spPr>
          <a:xfrm>
            <a:off x="1143000" y="750960"/>
            <a:ext cx="7024680" cy="52689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279440" y="5583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19520" y="59436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rebui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rebui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26668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 this way, this figure was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rebuil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ABU-R3" descr=""/>
          <p:cNvPicPr/>
          <p:nvPr/>
        </p:nvPicPr>
        <p:blipFill>
          <a:blip r:embed="rId1"/>
          <a:stretch/>
        </p:blipFill>
        <p:spPr>
          <a:xfrm>
            <a:off x="1447920" y="914400"/>
            <a:ext cx="6476760" cy="48578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3505320" y="1447920"/>
            <a:ext cx="3200400" cy="62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Verdana"/>
              </a:rPr>
              <a:t>Abu Simbel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4792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o was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the whole temp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ABU-R2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7024680" cy="5268960"/>
          </a:xfrm>
          <a:prstGeom prst="rect">
            <a:avLst/>
          </a:prstGeom>
          <a:ln w="0">
            <a:noFill/>
          </a:ln>
        </p:spPr>
      </p:pic>
      <p:sp>
        <p:nvSpPr>
          <p:cNvPr id="117" name="">
            <a:hlinkClick r:id="" action="ppaction://hlinkshowjump?jump=nextslide"/>
          </p:cNvPr>
          <p:cNvSpPr/>
          <p:nvPr/>
        </p:nvSpPr>
        <p:spPr>
          <a:xfrm>
            <a:off x="5105520" y="2514600"/>
            <a:ext cx="761760" cy="274320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2743200"/>
              <a:gd name="textAreaBottom" fmla="*/ 2693880 h 2743200"/>
            </a:gdLst>
            <a:ahLst/>
            <a:rect l="textAreaLeft" t="textAreaTop" r="textAreaRight" b="textAreaBottom"/>
            <a:pathLst>
              <a:path w="21600" h="77758">
                <a:moveTo>
                  <a:pt x="0" y="0"/>
                </a:moveTo>
                <a:lnTo>
                  <a:pt x="21600" y="0"/>
                </a:lnTo>
                <a:lnTo>
                  <a:pt x="21600" y="77758"/>
                </a:lnTo>
                <a:lnTo>
                  <a:pt x="0" y="77758"/>
                </a:lnTo>
                <a:close/>
              </a:path>
              <a:path fill="lightenLess" w="21600" h="777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77758">
                <a:moveTo>
                  <a:pt x="21600" y="0"/>
                </a:moveTo>
                <a:lnTo>
                  <a:pt x="21600" y="77758"/>
                </a:lnTo>
                <a:lnTo>
                  <a:pt x="20200" y="76358"/>
                </a:lnTo>
                <a:lnTo>
                  <a:pt x="20200" y="1400"/>
                </a:lnTo>
                <a:close/>
              </a:path>
              <a:path fill="darkenLess" w="21600" h="77758">
                <a:moveTo>
                  <a:pt x="21600" y="77758"/>
                </a:moveTo>
                <a:lnTo>
                  <a:pt x="0" y="77758"/>
                </a:lnTo>
                <a:lnTo>
                  <a:pt x="1400" y="76358"/>
                </a:lnTo>
                <a:lnTo>
                  <a:pt x="20200" y="76358"/>
                </a:lnTo>
                <a:close/>
              </a:path>
              <a:path fill="lighten" w="21600" h="77758">
                <a:moveTo>
                  <a:pt x="0" y="77758"/>
                </a:moveTo>
                <a:lnTo>
                  <a:pt x="0" y="0"/>
                </a:lnTo>
                <a:lnTo>
                  <a:pt x="1400" y="1400"/>
                </a:lnTo>
                <a:lnTo>
                  <a:pt x="1400" y="7635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4223t013" descr=""/>
          <p:cNvPicPr/>
          <p:nvPr/>
        </p:nvPicPr>
        <p:blipFill>
          <a:blip r:embed="rId1"/>
          <a:srcRect l="0" t="0" r="0" b="5554"/>
          <a:stretch/>
        </p:blipFill>
        <p:spPr>
          <a:xfrm>
            <a:off x="1600200" y="1028880"/>
            <a:ext cx="6172200" cy="4628880"/>
          </a:xfrm>
          <a:prstGeom prst="rect">
            <a:avLst/>
          </a:prstGeom>
          <a:ln w="0">
            <a:noFill/>
          </a:ln>
        </p:spPr>
      </p:pic>
      <p:sp>
        <p:nvSpPr>
          <p:cNvPr id="119" name="">
            <a:hlinkClick r:id="" action="ppaction://hlinkshowjump?jump=nextslide"/>
          </p:cNvPr>
          <p:cNvSpPr/>
          <p:nvPr/>
        </p:nvSpPr>
        <p:spPr>
          <a:xfrm>
            <a:off x="4724280" y="1371600"/>
            <a:ext cx="1143000" cy="4572000"/>
          </a:xfrm>
          <a:custGeom>
            <a:avLst/>
            <a:gdLst>
              <a:gd name="textAreaLeft" fmla="*/ 73800 w 1143000"/>
              <a:gd name="textAreaRight" fmla="*/ 1069200 w 1143000"/>
              <a:gd name="textAreaTop" fmla="*/ 73800 h 4572000"/>
              <a:gd name="textAreaBottom" fmla="*/ 4498200 h 4572000"/>
            </a:gdLst>
            <a:ahLst/>
            <a:rect l="textAreaLeft" t="textAreaTop" r="textAreaRight" b="textAreaBottom"/>
            <a:pathLst>
              <a:path w="21600" h="86380">
                <a:moveTo>
                  <a:pt x="0" y="0"/>
                </a:moveTo>
                <a:lnTo>
                  <a:pt x="21600" y="0"/>
                </a:lnTo>
                <a:lnTo>
                  <a:pt x="21600" y="86380"/>
                </a:lnTo>
                <a:lnTo>
                  <a:pt x="0" y="86380"/>
                </a:lnTo>
                <a:close/>
              </a:path>
              <a:path fill="lightenLess" w="21600" h="863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86380">
                <a:moveTo>
                  <a:pt x="21600" y="0"/>
                </a:moveTo>
                <a:lnTo>
                  <a:pt x="21600" y="86380"/>
                </a:lnTo>
                <a:lnTo>
                  <a:pt x="20200" y="84980"/>
                </a:lnTo>
                <a:lnTo>
                  <a:pt x="20200" y="1400"/>
                </a:lnTo>
                <a:close/>
              </a:path>
              <a:path fill="darkenLess" w="21600" h="86380">
                <a:moveTo>
                  <a:pt x="21600" y="86380"/>
                </a:moveTo>
                <a:lnTo>
                  <a:pt x="0" y="86380"/>
                </a:lnTo>
                <a:lnTo>
                  <a:pt x="1400" y="84980"/>
                </a:lnTo>
                <a:lnTo>
                  <a:pt x="20200" y="84980"/>
                </a:lnTo>
                <a:close/>
              </a:path>
              <a:path fill="lighten" w="21600" h="86380">
                <a:moveTo>
                  <a:pt x="0" y="86380"/>
                </a:moveTo>
                <a:lnTo>
                  <a:pt x="0" y="0"/>
                </a:lnTo>
                <a:lnTo>
                  <a:pt x="1400" y="1400"/>
                </a:lnTo>
                <a:lnTo>
                  <a:pt x="1400" y="8498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81480" y="5638680"/>
            <a:ext cx="598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ut into pieces, mark wi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10014601" descr=""/>
          <p:cNvPicPr/>
          <p:nvPr/>
        </p:nvPicPr>
        <p:blipFill>
          <a:blip r:embed="rId1"/>
          <a:stretch/>
        </p:blipFill>
        <p:spPr>
          <a:xfrm>
            <a:off x="2133720" y="838080"/>
            <a:ext cx="4895640" cy="4953240"/>
          </a:xfrm>
          <a:prstGeom prst="rect">
            <a:avLst/>
          </a:prstGeom>
          <a:ln w="0">
            <a:noFill/>
          </a:ln>
        </p:spPr>
      </p:pic>
      <p:sp>
        <p:nvSpPr>
          <p:cNvPr id="122" name="">
            <a:hlinkClick r:id="" action="ppaction://hlinkshowjump?jump=nextslide"/>
          </p:cNvPr>
          <p:cNvSpPr/>
          <p:nvPr/>
        </p:nvSpPr>
        <p:spPr>
          <a:xfrm>
            <a:off x="2743200" y="1600200"/>
            <a:ext cx="1219320" cy="4419720"/>
          </a:xfrm>
          <a:custGeom>
            <a:avLst/>
            <a:gdLst>
              <a:gd name="textAreaLeft" fmla="*/ 78840 w 1219320"/>
              <a:gd name="textAreaRight" fmla="*/ 1140480 w 1219320"/>
              <a:gd name="textAreaTop" fmla="*/ 78840 h 4419720"/>
              <a:gd name="textAreaBottom" fmla="*/ 4340880 h 4419720"/>
            </a:gdLst>
            <a:ahLst/>
            <a:rect l="textAreaLeft" t="textAreaTop" r="textAreaRight" b="textAreaBottom"/>
            <a:pathLst>
              <a:path w="21600" h="78278">
                <a:moveTo>
                  <a:pt x="0" y="0"/>
                </a:moveTo>
                <a:lnTo>
                  <a:pt x="21600" y="0"/>
                </a:lnTo>
                <a:lnTo>
                  <a:pt x="21600" y="78278"/>
                </a:lnTo>
                <a:lnTo>
                  <a:pt x="0" y="78278"/>
                </a:lnTo>
                <a:close/>
              </a:path>
              <a:path fill="lightenLess" w="21600" h="7827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78278">
                <a:moveTo>
                  <a:pt x="21600" y="0"/>
                </a:moveTo>
                <a:lnTo>
                  <a:pt x="21600" y="78278"/>
                </a:lnTo>
                <a:lnTo>
                  <a:pt x="20200" y="76878"/>
                </a:lnTo>
                <a:lnTo>
                  <a:pt x="20200" y="1400"/>
                </a:lnTo>
                <a:close/>
              </a:path>
              <a:path fill="darkenLess" w="21600" h="78278">
                <a:moveTo>
                  <a:pt x="21600" y="78278"/>
                </a:moveTo>
                <a:lnTo>
                  <a:pt x="0" y="78278"/>
                </a:lnTo>
                <a:lnTo>
                  <a:pt x="1400" y="76878"/>
                </a:lnTo>
                <a:lnTo>
                  <a:pt x="20200" y="76878"/>
                </a:lnTo>
                <a:close/>
              </a:path>
              <a:path fill="lighten" w="21600" h="78278">
                <a:moveTo>
                  <a:pt x="0" y="78278"/>
                </a:moveTo>
                <a:lnTo>
                  <a:pt x="0" y="0"/>
                </a:lnTo>
                <a:lnTo>
                  <a:pt x="1400" y="1400"/>
                </a:lnTo>
                <a:lnTo>
                  <a:pt x="1400" y="7687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15440" y="5607000"/>
            <a:ext cx="47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arry to,    put toget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ABU-R2" descr=""/>
          <p:cNvPicPr/>
          <p:nvPr/>
        </p:nvPicPr>
        <p:blipFill>
          <a:blip r:embed="rId1"/>
          <a:stretch/>
        </p:blipFill>
        <p:spPr>
          <a:xfrm>
            <a:off x="1219320" y="609480"/>
            <a:ext cx="6796080" cy="50976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438280" y="563868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rebuil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ABU-R3" descr=""/>
          <p:cNvPicPr/>
          <p:nvPr/>
        </p:nvPicPr>
        <p:blipFill>
          <a:blip r:embed="rId1"/>
          <a:stretch/>
        </p:blipFill>
        <p:spPr>
          <a:xfrm>
            <a:off x="1600200" y="91440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3505320" y="1447920"/>
            <a:ext cx="3200400" cy="62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Verdana"/>
              </a:rPr>
              <a:t>Abu Simbel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128" name=""/>
          <p:cNvSpPr/>
          <p:nvPr/>
        </p:nvSpPr>
        <p:spPr>
          <a:xfrm>
            <a:off x="1531440" y="5486400"/>
            <a:ext cx="220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o was …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371600" y="1930320"/>
            <a:ext cx="6781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ow  can we get to the templ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at can we see there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s it right to rescue the templ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43000" y="838080"/>
            <a:ext cx="69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ccff"/>
                </a:solidFill>
                <a:latin typeface="Times New Roman"/>
              </a:rPr>
              <a:t>Answer the question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ABU-R3" descr=""/>
          <p:cNvPicPr/>
          <p:nvPr/>
        </p:nvPicPr>
        <p:blipFill>
          <a:blip r:embed="rId1"/>
          <a:stretch/>
        </p:blipFill>
        <p:spPr>
          <a:xfrm>
            <a:off x="1219320" y="885960"/>
            <a:ext cx="6673680" cy="5005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3809880" y="1295280"/>
            <a:ext cx="2413080" cy="60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Verdana"/>
              </a:rPr>
              <a:t>Abu Simbel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Verdana"/>
              <a:ea typeface="Verdana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371600" y="2374920"/>
            <a:ext cx="6781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ow  can we get to the templ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95280" y="3301920"/>
            <a:ext cx="6477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We can either fly to Abu Simb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or take a boat from across the lak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143000" y="1155600"/>
            <a:ext cx="69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ccff"/>
                </a:solidFill>
                <a:latin typeface="Times New Roman"/>
              </a:rPr>
              <a:t>Answer the questio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369440" y="5135400"/>
            <a:ext cx="262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Times New Roman"/>
              </a:rPr>
              <a:t>Para 3  Lin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371600" y="216216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at can we see there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6760" y="3378240"/>
            <a:ext cx="492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We can see the tall ston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figur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43000" y="838080"/>
            <a:ext cx="69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ccff"/>
                </a:solidFill>
                <a:latin typeface="Times New Roman"/>
              </a:rPr>
              <a:t>Answer the questio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69440" y="5135400"/>
            <a:ext cx="262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Times New Roman"/>
              </a:rPr>
              <a:t>Para 3  Line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371600" y="2146320"/>
            <a:ext cx="6781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s it right to rescue the templ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2720" y="3505320"/>
            <a:ext cx="54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Yes. It is right to rescue th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emp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43000" y="1066680"/>
            <a:ext cx="69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ccff"/>
                </a:solidFill>
                <a:latin typeface="Times New Roman"/>
              </a:rPr>
              <a:t>Answer the questio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69440" y="5135400"/>
            <a:ext cx="262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Times New Roman"/>
              </a:rPr>
              <a:t>Para 3  Line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371600" y="1763640"/>
            <a:ext cx="67816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ow  did you get to the templ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at did you see there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s it right to rescue the templ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1360" y="2392200"/>
            <a:ext cx="228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(take a bo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45760" y="3916440"/>
            <a:ext cx="387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(the tall stone figur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24600" y="4952880"/>
            <a:ext cx="9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(y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43000" y="838080"/>
            <a:ext cx="69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ccff"/>
                </a:solidFill>
                <a:latin typeface="Times New Roman"/>
              </a:rPr>
              <a:t>Speaking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72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ccff"/>
                </a:solidFill>
                <a:latin typeface="Times New Roman"/>
              </a:rPr>
              <a:t>Writing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95280" y="24382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We visited the temple at Abu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Simbel the other day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371600" y="1763640"/>
            <a:ext cx="67816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ow  did you get to the templ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at did you see there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s it right to rescue the templ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21360" y="2392200"/>
            <a:ext cx="228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(take a bo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5760" y="3916440"/>
            <a:ext cx="387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(the tall stone figur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24600" y="4952880"/>
            <a:ext cx="9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(y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43000" y="838080"/>
            <a:ext cx="69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ccff"/>
                </a:solidFill>
                <a:latin typeface="Times New Roman"/>
              </a:rPr>
              <a:t>Write a short passag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 possible version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I  visited the temple at Abu Simbel the other day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．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I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took a boat from across the lake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．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There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，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by the water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of the new lake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，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I  coul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see the tall stone figures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 possible version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8960" y="22096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e place was quiet and very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，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very beautiful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．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I think i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right that the temple shoul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be rescued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952640" y="16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Bellows%20Gorge" descr=""/>
          <p:cNvPicPr/>
          <p:nvPr/>
        </p:nvPicPr>
        <p:blipFill>
          <a:blip r:embed="rId1"/>
          <a:stretch/>
        </p:blipFill>
        <p:spPr>
          <a:xfrm>
            <a:off x="1066680" y="936720"/>
            <a:ext cx="716292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95264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Wu%20Gorge" descr=""/>
          <p:cNvPicPr/>
          <p:nvPr/>
        </p:nvPicPr>
        <p:blipFill>
          <a:blip r:embed="rId1"/>
          <a:stretch/>
        </p:blipFill>
        <p:spPr>
          <a:xfrm>
            <a:off x="990720" y="1052640"/>
            <a:ext cx="716256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ABU-R2" descr=""/>
          <p:cNvPicPr/>
          <p:nvPr/>
        </p:nvPicPr>
        <p:blipFill>
          <a:blip r:embed="rId1"/>
          <a:stretch/>
        </p:blipFill>
        <p:spPr>
          <a:xfrm>
            <a:off x="1143000" y="750960"/>
            <a:ext cx="7024680" cy="5268960"/>
          </a:xfrm>
          <a:prstGeom prst="rect">
            <a:avLst/>
          </a:prstGeom>
          <a:ln w="0">
            <a:noFill/>
          </a:ln>
        </p:spPr>
      </p:pic>
      <p:sp>
        <p:nvSpPr>
          <p:cNvPr id="61" name="">
            <a:hlinkClick r:id="rId2" action="ppaction://hlinksldjump"/>
          </p:cNvPr>
          <p:cNvSpPr/>
          <p:nvPr/>
        </p:nvSpPr>
        <p:spPr>
          <a:xfrm>
            <a:off x="4419720" y="4191120"/>
            <a:ext cx="384120" cy="10555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1055520"/>
              <a:gd name="textAreaBottom" fmla="*/ 1030680 h 1055520"/>
            </a:gdLst>
            <a:ahLst/>
            <a:rect l="textAreaLeft" t="textAreaTop" r="textAreaRight" b="textAreaBottom"/>
            <a:pathLst>
              <a:path w="21600" h="59319">
                <a:moveTo>
                  <a:pt x="0" y="0"/>
                </a:moveTo>
                <a:lnTo>
                  <a:pt x="21600" y="0"/>
                </a:lnTo>
                <a:lnTo>
                  <a:pt x="21600" y="59319"/>
                </a:lnTo>
                <a:lnTo>
                  <a:pt x="0" y="59319"/>
                </a:lnTo>
                <a:close/>
              </a:path>
              <a:path fill="lightenLess" w="21600" h="593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59319">
                <a:moveTo>
                  <a:pt x="21600" y="0"/>
                </a:moveTo>
                <a:lnTo>
                  <a:pt x="21600" y="59319"/>
                </a:lnTo>
                <a:lnTo>
                  <a:pt x="20200" y="57919"/>
                </a:lnTo>
                <a:lnTo>
                  <a:pt x="20200" y="1400"/>
                </a:lnTo>
                <a:close/>
              </a:path>
              <a:path fill="darkenLess" w="21600" h="59319">
                <a:moveTo>
                  <a:pt x="21600" y="59319"/>
                </a:moveTo>
                <a:lnTo>
                  <a:pt x="0" y="59319"/>
                </a:lnTo>
                <a:lnTo>
                  <a:pt x="1400" y="57919"/>
                </a:lnTo>
                <a:lnTo>
                  <a:pt x="20200" y="57919"/>
                </a:lnTo>
                <a:close/>
              </a:path>
              <a:path fill="lighten" w="21600" h="59319">
                <a:moveTo>
                  <a:pt x="0" y="59319"/>
                </a:moveTo>
                <a:lnTo>
                  <a:pt x="0" y="0"/>
                </a:lnTo>
                <a:lnTo>
                  <a:pt x="1400" y="1400"/>
                </a:lnTo>
                <a:lnTo>
                  <a:pt x="1400" y="5791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105520" y="2514600"/>
            <a:ext cx="761760" cy="274320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2743200"/>
              <a:gd name="textAreaBottom" fmla="*/ 2693880 h 2743200"/>
            </a:gdLst>
            <a:ahLst/>
            <a:rect l="textAreaLeft" t="textAreaTop" r="textAreaRight" b="textAreaBottom"/>
            <a:pathLst>
              <a:path w="21600" h="77758">
                <a:moveTo>
                  <a:pt x="0" y="0"/>
                </a:moveTo>
                <a:lnTo>
                  <a:pt x="21600" y="0"/>
                </a:lnTo>
                <a:lnTo>
                  <a:pt x="21600" y="77758"/>
                </a:lnTo>
                <a:lnTo>
                  <a:pt x="0" y="77758"/>
                </a:lnTo>
                <a:close/>
              </a:path>
              <a:path fill="lightenLess" w="21600" h="777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77758">
                <a:moveTo>
                  <a:pt x="21600" y="0"/>
                </a:moveTo>
                <a:lnTo>
                  <a:pt x="21600" y="77758"/>
                </a:lnTo>
                <a:lnTo>
                  <a:pt x="20200" y="76358"/>
                </a:lnTo>
                <a:lnTo>
                  <a:pt x="20200" y="1400"/>
                </a:lnTo>
                <a:close/>
              </a:path>
              <a:path fill="darkenLess" w="21600" h="77758">
                <a:moveTo>
                  <a:pt x="21600" y="77758"/>
                </a:moveTo>
                <a:lnTo>
                  <a:pt x="0" y="77758"/>
                </a:lnTo>
                <a:lnTo>
                  <a:pt x="1400" y="76358"/>
                </a:lnTo>
                <a:lnTo>
                  <a:pt x="20200" y="76358"/>
                </a:lnTo>
                <a:close/>
              </a:path>
              <a:path fill="lighten" w="21600" h="77758">
                <a:moveTo>
                  <a:pt x="0" y="77758"/>
                </a:moveTo>
                <a:lnTo>
                  <a:pt x="0" y="0"/>
                </a:lnTo>
                <a:lnTo>
                  <a:pt x="1400" y="1400"/>
                </a:lnTo>
                <a:lnTo>
                  <a:pt x="1400" y="7635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952640" y="16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Xiling%20Gorge2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467840" cy="49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>
            <a:hlinkClick r:id="" action="ppaction://hlinkshowjump?jump=nextslide"/>
          </p:cNvPr>
          <p:cNvSpPr/>
          <p:nvPr/>
        </p:nvSpPr>
        <p:spPr>
          <a:xfrm>
            <a:off x="4419720" y="3886200"/>
            <a:ext cx="685800" cy="14479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1447920"/>
              <a:gd name="textAreaBottom" fmla="*/ 1403640 h 1447920"/>
            </a:gdLst>
            <a:ahLst/>
            <a:rect l="textAreaLeft" t="textAreaTop" r="textAreaRight" b="textAreaBottom"/>
            <a:pathLst>
              <a:path w="21600" h="45591">
                <a:moveTo>
                  <a:pt x="0" y="0"/>
                </a:moveTo>
                <a:lnTo>
                  <a:pt x="21600" y="0"/>
                </a:lnTo>
                <a:lnTo>
                  <a:pt x="21600" y="45591"/>
                </a:lnTo>
                <a:lnTo>
                  <a:pt x="0" y="45591"/>
                </a:lnTo>
                <a:close/>
              </a:path>
              <a:path fill="lightenLess" w="21600" h="4559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5591">
                <a:moveTo>
                  <a:pt x="21600" y="0"/>
                </a:moveTo>
                <a:lnTo>
                  <a:pt x="21600" y="45591"/>
                </a:lnTo>
                <a:lnTo>
                  <a:pt x="20200" y="44191"/>
                </a:lnTo>
                <a:lnTo>
                  <a:pt x="20200" y="1400"/>
                </a:lnTo>
                <a:close/>
              </a:path>
              <a:path fill="darkenLess" w="21600" h="45591">
                <a:moveTo>
                  <a:pt x="21600" y="45591"/>
                </a:moveTo>
                <a:lnTo>
                  <a:pt x="0" y="45591"/>
                </a:lnTo>
                <a:lnTo>
                  <a:pt x="1400" y="44191"/>
                </a:lnTo>
                <a:lnTo>
                  <a:pt x="20200" y="44191"/>
                </a:lnTo>
                <a:close/>
              </a:path>
              <a:path fill="lighten" w="21600" h="45591">
                <a:moveTo>
                  <a:pt x="0" y="45591"/>
                </a:moveTo>
                <a:lnTo>
                  <a:pt x="0" y="0"/>
                </a:lnTo>
                <a:lnTo>
                  <a:pt x="1400" y="1400"/>
                </a:lnTo>
                <a:lnTo>
                  <a:pt x="1400" y="4419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>
            <a:hlinkClick r:id="" action="ppaction://hlinkshowjump?jump=nextslide"/>
          </p:cNvPr>
          <p:cNvSpPr/>
          <p:nvPr/>
        </p:nvSpPr>
        <p:spPr>
          <a:xfrm>
            <a:off x="4343400" y="3733920"/>
            <a:ext cx="1042920" cy="17524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752480"/>
              <a:gd name="textAreaBottom" fmla="*/ 1685160 h 1752480"/>
            </a:gdLst>
            <a:ahLst/>
            <a:rect l="textAreaLeft" t="textAreaTop" r="textAreaRight" b="textAreaBottom"/>
            <a:pathLst>
              <a:path w="21600" h="36291">
                <a:moveTo>
                  <a:pt x="0" y="0"/>
                </a:moveTo>
                <a:lnTo>
                  <a:pt x="21600" y="0"/>
                </a:lnTo>
                <a:lnTo>
                  <a:pt x="21600" y="36291"/>
                </a:lnTo>
                <a:lnTo>
                  <a:pt x="0" y="36291"/>
                </a:lnTo>
                <a:close/>
              </a:path>
              <a:path fill="lightenLess" w="21600" h="3629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6291">
                <a:moveTo>
                  <a:pt x="21600" y="0"/>
                </a:moveTo>
                <a:lnTo>
                  <a:pt x="21600" y="36291"/>
                </a:lnTo>
                <a:lnTo>
                  <a:pt x="20200" y="34891"/>
                </a:lnTo>
                <a:lnTo>
                  <a:pt x="20200" y="1400"/>
                </a:lnTo>
                <a:close/>
              </a:path>
              <a:path fill="darkenLess" w="21600" h="36291">
                <a:moveTo>
                  <a:pt x="21600" y="36291"/>
                </a:moveTo>
                <a:lnTo>
                  <a:pt x="0" y="36291"/>
                </a:lnTo>
                <a:lnTo>
                  <a:pt x="1400" y="34891"/>
                </a:lnTo>
                <a:lnTo>
                  <a:pt x="20200" y="34891"/>
                </a:lnTo>
                <a:close/>
              </a:path>
              <a:path fill="lighten" w="21600" h="36291">
                <a:moveTo>
                  <a:pt x="0" y="36291"/>
                </a:moveTo>
                <a:lnTo>
                  <a:pt x="0" y="0"/>
                </a:lnTo>
                <a:lnTo>
                  <a:pt x="1400" y="1400"/>
                </a:lnTo>
                <a:lnTo>
                  <a:pt x="1400" y="3489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00200" y="9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threegorgesdam" descr=""/>
          <p:cNvPicPr/>
          <p:nvPr/>
        </p:nvPicPr>
        <p:blipFill>
          <a:blip r:embed="rId1"/>
          <a:stretch/>
        </p:blipFill>
        <p:spPr>
          <a:xfrm>
            <a:off x="1219320" y="801720"/>
            <a:ext cx="6858000" cy="5148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80880" y="914400"/>
            <a:ext cx="8458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057400" y="1600200"/>
          <a:ext cx="4876920" cy="4438800"/>
        </p:xfrm>
        <a:graphic>
          <a:graphicData uri="http://schemas.openxmlformats.org/drawingml/2006/table">
            <a:tbl>
              <a:tblPr/>
              <a:tblGrid>
                <a:gridCol w="2297160"/>
                <a:gridCol w="2579760"/>
              </a:tblGrid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nxia Da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s it big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here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hen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6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hy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blem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"/>
          <p:cNvSpPr/>
          <p:nvPr/>
        </p:nvSpPr>
        <p:spPr>
          <a:xfrm>
            <a:off x="2057400" y="88272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Times New Roman"/>
              </a:rPr>
              <a:t>Fill in the for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905120" y="1581120"/>
            <a:ext cx="5410080" cy="45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Yangtze is the longest river in China and the third longest in the world after the Amazon in South Americ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nd the Nile i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frica.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　　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BS00559_" descr=""/>
          <p:cNvPicPr/>
          <p:nvPr/>
        </p:nvPicPr>
        <p:blipFill>
          <a:blip r:embed="rId1"/>
          <a:stretch/>
        </p:blipFill>
        <p:spPr>
          <a:xfrm>
            <a:off x="5105520" y="4495680"/>
            <a:ext cx="2286000" cy="14493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874160" y="838080"/>
            <a:ext cx="460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Times New Roman"/>
              </a:rPr>
              <a:t>Reading and Liste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648320" y="5562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2709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066680" y="1693800"/>
            <a:ext cx="7086600" cy="37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owever, the Yangtze River floods every year, causing great loss of lives and millions of dollars. Therefore the government decided to build the dam to control the wate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BS00559_" descr=""/>
          <p:cNvPicPr/>
          <p:nvPr/>
        </p:nvPicPr>
        <p:blipFill>
          <a:blip r:embed="rId1"/>
          <a:stretch/>
        </p:blipFill>
        <p:spPr>
          <a:xfrm>
            <a:off x="6095880" y="4800600"/>
            <a:ext cx="1676520" cy="6094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226520" y="838080"/>
            <a:ext cx="47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Times New Roman"/>
              </a:rPr>
              <a:t>Reading and Listen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715000" y="5029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2709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1905120"/>
            <a:ext cx="6019560" cy="38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　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Three Gorges will be the biggest dam in the world. The dam will be about 6,860 feet wide and 611 feet high. It is obvious that such a big project will do much good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45560" y="1035000"/>
            <a:ext cx="460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Times New Roman"/>
              </a:rPr>
              <a:t>Reading and Liste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BS00559_" descr=""/>
          <p:cNvPicPr/>
          <p:nvPr/>
        </p:nvPicPr>
        <p:blipFill>
          <a:blip r:embed="rId1"/>
          <a:stretch/>
        </p:blipFill>
        <p:spPr>
          <a:xfrm>
            <a:off x="6934320" y="4952880"/>
            <a:ext cx="685800" cy="6685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7162920" y="46483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2709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736640" y="1523880"/>
            <a:ext cx="5883480" cy="43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most important is flood control, and another purpose of the dam is to produce electricity for Eastern and Centra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n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BS00559_" descr=""/>
          <p:cNvPicPr/>
          <p:nvPr/>
        </p:nvPicPr>
        <p:blipFill>
          <a:blip r:embed="rId1"/>
          <a:stretch/>
        </p:blipFill>
        <p:spPr>
          <a:xfrm>
            <a:off x="5105520" y="5105520"/>
            <a:ext cx="1904760" cy="7617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760040" y="838080"/>
            <a:ext cx="47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Times New Roman"/>
              </a:rPr>
              <a:t>Reading and Listen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4419720" y="53341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2709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30360" y="1447920"/>
            <a:ext cx="6851520" cy="45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wever, some scientists don't agree to the project. They say that many people will be removed, which of course will cost much money, and some historical sites will b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troy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69240" y="806400"/>
            <a:ext cx="460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Times New Roman"/>
              </a:rPr>
              <a:t>Reading and Liste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BS00559_" descr=""/>
          <p:cNvPicPr/>
          <p:nvPr/>
        </p:nvPicPr>
        <p:blipFill>
          <a:blip r:embed="rId1"/>
          <a:stretch/>
        </p:blipFill>
        <p:spPr>
          <a:xfrm>
            <a:off x="5943600" y="4876920"/>
            <a:ext cx="1447920" cy="9903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5410080" y="5410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684800" y="1731960"/>
            <a:ext cx="5589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Three Gorges D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uld be considered, whe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t is finished in 2009,   th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ighth wonder o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world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BS00559_" descr=""/>
          <p:cNvPicPr/>
          <p:nvPr/>
        </p:nvPicPr>
        <p:blipFill>
          <a:blip r:embed="rId1"/>
          <a:stretch/>
        </p:blipFill>
        <p:spPr>
          <a:xfrm>
            <a:off x="5181480" y="4691160"/>
            <a:ext cx="1905120" cy="10810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721520" y="1035000"/>
            <a:ext cx="460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Times New Roman"/>
              </a:rPr>
              <a:t>Reading and Liste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4648320" y="53341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905120" y="1581120"/>
            <a:ext cx="5410080" cy="45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Yangtze is the longest river in China and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third longest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in the world after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Amazon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in South Americ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nd the Nile i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frica.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　　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BS00559_" descr=""/>
          <p:cNvPicPr/>
          <p:nvPr/>
        </p:nvPicPr>
        <p:blipFill>
          <a:blip r:embed="rId1"/>
          <a:stretch/>
        </p:blipFill>
        <p:spPr>
          <a:xfrm>
            <a:off x="5105520" y="4495680"/>
            <a:ext cx="2286000" cy="14493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906560" y="958680"/>
            <a:ext cx="192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Times New Roman"/>
              </a:rPr>
              <a:t>Read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>
            <a:hlinkClick r:id="" action="ppaction://hlinkshowjump?jump=nextslide"/>
          </p:cNvPr>
          <p:cNvSpPr/>
          <p:nvPr/>
        </p:nvSpPr>
        <p:spPr>
          <a:xfrm>
            <a:off x="4419720" y="3505320"/>
            <a:ext cx="533160" cy="14475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1447560"/>
              <a:gd name="textAreaBottom" fmla="*/ 1413000 h 1447560"/>
            </a:gdLst>
            <a:ahLst/>
            <a:rect l="textAreaLeft" t="textAreaTop" r="textAreaRight" b="textAreaBottom"/>
            <a:pathLst>
              <a:path w="21600" h="58620">
                <a:moveTo>
                  <a:pt x="0" y="0"/>
                </a:moveTo>
                <a:lnTo>
                  <a:pt x="21600" y="0"/>
                </a:lnTo>
                <a:lnTo>
                  <a:pt x="21600" y="58620"/>
                </a:lnTo>
                <a:lnTo>
                  <a:pt x="0" y="58620"/>
                </a:lnTo>
                <a:close/>
              </a:path>
              <a:path fill="lightenLess" w="21600" h="58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58620">
                <a:moveTo>
                  <a:pt x="21600" y="0"/>
                </a:moveTo>
                <a:lnTo>
                  <a:pt x="21600" y="58620"/>
                </a:lnTo>
                <a:lnTo>
                  <a:pt x="20200" y="57220"/>
                </a:lnTo>
                <a:lnTo>
                  <a:pt x="20200" y="1400"/>
                </a:lnTo>
                <a:close/>
              </a:path>
              <a:path fill="darkenLess" w="21600" h="58620">
                <a:moveTo>
                  <a:pt x="21600" y="58620"/>
                </a:moveTo>
                <a:lnTo>
                  <a:pt x="0" y="58620"/>
                </a:lnTo>
                <a:lnTo>
                  <a:pt x="1400" y="57220"/>
                </a:lnTo>
                <a:lnTo>
                  <a:pt x="20200" y="57220"/>
                </a:lnTo>
                <a:close/>
              </a:path>
              <a:path fill="lighten" w="21600" h="58620">
                <a:moveTo>
                  <a:pt x="0" y="58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572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abu_sim7" descr=""/>
          <p:cNvPicPr/>
          <p:nvPr/>
        </p:nvPicPr>
        <p:blipFill>
          <a:blip r:embed="rId1"/>
          <a:stretch/>
        </p:blipFill>
        <p:spPr>
          <a:xfrm>
            <a:off x="2819520" y="762120"/>
            <a:ext cx="3414600" cy="5029200"/>
          </a:xfrm>
          <a:prstGeom prst="rect">
            <a:avLst/>
          </a:prstGeom>
          <a:ln w="0">
            <a:noFill/>
          </a:ln>
        </p:spPr>
      </p:pic>
      <p:sp>
        <p:nvSpPr>
          <p:cNvPr id="65" name="">
            <a:hlinkClick r:id="" action="ppaction://hlinkshowjump?jump=nextslide"/>
          </p:cNvPr>
          <p:cNvSpPr/>
          <p:nvPr/>
        </p:nvSpPr>
        <p:spPr>
          <a:xfrm>
            <a:off x="4419720" y="3429000"/>
            <a:ext cx="533160" cy="137160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1371600"/>
              <a:gd name="textAreaBottom" fmla="*/ 1337040 h 1371600"/>
            </a:gdLst>
            <a:ahLst/>
            <a:rect l="textAreaLeft" t="textAreaTop" r="textAreaRight" b="textAreaBottom"/>
            <a:pathLst>
              <a:path w="21600" h="55545">
                <a:moveTo>
                  <a:pt x="0" y="0"/>
                </a:moveTo>
                <a:lnTo>
                  <a:pt x="21600" y="0"/>
                </a:lnTo>
                <a:lnTo>
                  <a:pt x="21600" y="55545"/>
                </a:lnTo>
                <a:lnTo>
                  <a:pt x="0" y="55545"/>
                </a:lnTo>
                <a:close/>
              </a:path>
              <a:path fill="lightenLess" w="21600" h="5554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55545">
                <a:moveTo>
                  <a:pt x="21600" y="0"/>
                </a:moveTo>
                <a:lnTo>
                  <a:pt x="21600" y="55545"/>
                </a:lnTo>
                <a:lnTo>
                  <a:pt x="20200" y="54145"/>
                </a:lnTo>
                <a:lnTo>
                  <a:pt x="20200" y="1400"/>
                </a:lnTo>
                <a:close/>
              </a:path>
              <a:path fill="darkenLess" w="21600" h="55545">
                <a:moveTo>
                  <a:pt x="21600" y="55545"/>
                </a:moveTo>
                <a:lnTo>
                  <a:pt x="0" y="55545"/>
                </a:lnTo>
                <a:lnTo>
                  <a:pt x="1400" y="54145"/>
                </a:lnTo>
                <a:lnTo>
                  <a:pt x="20200" y="54145"/>
                </a:lnTo>
                <a:close/>
              </a:path>
              <a:path fill="lighten" w="21600" h="55545">
                <a:moveTo>
                  <a:pt x="0" y="55545"/>
                </a:moveTo>
                <a:lnTo>
                  <a:pt x="0" y="0"/>
                </a:lnTo>
                <a:lnTo>
                  <a:pt x="1400" y="1400"/>
                </a:lnTo>
                <a:lnTo>
                  <a:pt x="1400" y="5414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2709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066680" y="1693800"/>
            <a:ext cx="7086600" cy="37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owever, the Yangtze River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floods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very year,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ausing great loss of lives and millions of dollars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. Therefore the government decided to build the dam to control the wate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BS00559_" descr=""/>
          <p:cNvPicPr/>
          <p:nvPr/>
        </p:nvPicPr>
        <p:blipFill>
          <a:blip r:embed="rId1"/>
          <a:stretch/>
        </p:blipFill>
        <p:spPr>
          <a:xfrm>
            <a:off x="5334120" y="4800600"/>
            <a:ext cx="2438280" cy="6094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296720" y="838080"/>
            <a:ext cx="192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Times New Roman"/>
              </a:rPr>
              <a:t>Read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2709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76520" y="1905120"/>
            <a:ext cx="6019560" cy="38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　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Three Gorges will be the biggest dam in the world.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e dam will be about 6,860 feet wide and 611 feet high. It is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bvious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at such a big project will do much good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830240" y="1035000"/>
            <a:ext cx="192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Times New Roman"/>
              </a:rPr>
              <a:t>Read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BS00559_" descr=""/>
          <p:cNvPicPr/>
          <p:nvPr/>
        </p:nvPicPr>
        <p:blipFill>
          <a:blip r:embed="rId1"/>
          <a:stretch/>
        </p:blipFill>
        <p:spPr>
          <a:xfrm>
            <a:off x="6934320" y="4952880"/>
            <a:ext cx="685800" cy="6685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2709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736640" y="1523880"/>
            <a:ext cx="5883480" cy="43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most important is flood control, and another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urpose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the dam is to produce electricity for Eastern and Centra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n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BS00559_" descr=""/>
          <p:cNvPicPr/>
          <p:nvPr/>
        </p:nvPicPr>
        <p:blipFill>
          <a:blip r:embed="rId1"/>
          <a:stretch/>
        </p:blipFill>
        <p:spPr>
          <a:xfrm>
            <a:off x="5105520" y="5105520"/>
            <a:ext cx="1904760" cy="7617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830240" y="838080"/>
            <a:ext cx="192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Times New Roman"/>
              </a:rPr>
              <a:t>Read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2709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30360" y="1447920"/>
            <a:ext cx="6851520" cy="45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wever, some scientists don't agree to the project. They say that many people will be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ich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f course will cost much money, and some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istorical sites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ill b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troy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5320" y="685800"/>
            <a:ext cx="192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Times New Roman"/>
              </a:rPr>
              <a:t>Read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BS00559_" descr=""/>
          <p:cNvPicPr/>
          <p:nvPr/>
        </p:nvPicPr>
        <p:blipFill>
          <a:blip r:embed="rId1"/>
          <a:stretch/>
        </p:blipFill>
        <p:spPr>
          <a:xfrm>
            <a:off x="5943600" y="4876920"/>
            <a:ext cx="1447920" cy="990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684800" y="1731960"/>
            <a:ext cx="5589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Three Gorges D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uld be considered,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whe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t is finished in 2009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,   th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ighth wonder o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world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BS00559_" descr=""/>
          <p:cNvPicPr/>
          <p:nvPr/>
        </p:nvPicPr>
        <p:blipFill>
          <a:blip r:embed="rId1"/>
          <a:stretch/>
        </p:blipFill>
        <p:spPr>
          <a:xfrm>
            <a:off x="5181480" y="4691160"/>
            <a:ext cx="1905120" cy="10810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1601640" y="958680"/>
            <a:ext cx="192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Times New Roman"/>
              </a:rPr>
              <a:t>Read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80880" y="914400"/>
            <a:ext cx="8458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2057400" y="1523880"/>
          <a:ext cx="4876920" cy="4572000"/>
        </p:xfrm>
        <a:graphic>
          <a:graphicData uri="http://schemas.openxmlformats.org/drawingml/2006/table">
            <a:tbl>
              <a:tblPr/>
              <a:tblGrid>
                <a:gridCol w="2297160"/>
                <a:gridCol w="257976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nxia Da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s it big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her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hen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6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hy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3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ble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"/>
          <p:cNvSpPr/>
          <p:nvPr/>
        </p:nvSpPr>
        <p:spPr>
          <a:xfrm>
            <a:off x="4572360" y="2133720"/>
            <a:ext cx="142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Bigg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343040" y="2819520"/>
            <a:ext cx="25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Yangtze Ri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720" y="350532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00"/>
                </a:solidFill>
                <a:latin typeface="Times New Roman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419720" y="4114800"/>
            <a:ext cx="117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Fl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496760" y="4724280"/>
            <a:ext cx="189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Electri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95320" y="5486400"/>
            <a:ext cx="175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Remov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057400" y="73008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Times New Roman"/>
              </a:rPr>
              <a:t>Fill in the for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1" name=""/>
          <p:cNvGraphicFramePr/>
          <p:nvPr/>
        </p:nvGraphicFramePr>
        <p:xfrm>
          <a:off x="1676520" y="1665360"/>
          <a:ext cx="6019560" cy="4430520"/>
        </p:xfrm>
        <a:graphic>
          <a:graphicData uri="http://schemas.openxmlformats.org/drawingml/2006/table">
            <a:tbl>
              <a:tblPr/>
              <a:tblGrid>
                <a:gridCol w="2041560"/>
                <a:gridCol w="1920600"/>
                <a:gridCol w="2057400"/>
              </a:tblGrid>
              <a:tr h="87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nxia Da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swan Da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s it big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Big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her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Yangtz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hen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0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5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h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Flood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lectricit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ble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emoval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"/>
          <p:cNvSpPr/>
          <p:nvPr/>
        </p:nvSpPr>
        <p:spPr>
          <a:xfrm>
            <a:off x="5889240" y="2533680"/>
            <a:ext cx="76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Bi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792400" y="311292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N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868000" y="379872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00"/>
                </a:solidFill>
                <a:latin typeface="Times New Roman"/>
              </a:rPr>
              <a:t>19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867280" y="4408560"/>
            <a:ext cx="117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Fl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716080" y="5018040"/>
            <a:ext cx="189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Electri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791320" y="5475240"/>
            <a:ext cx="165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Remov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752480" y="73008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Times New Roman"/>
              </a:rPr>
              <a:t>Fill in the for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omparison: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imilariti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523520" y="25909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ere are some similarities between the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omparison: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imilarities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676160" y="220968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To begin with, both of them 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very big. The Aswan High Dam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the biggest at present, and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Three Gorges Dam will be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biggest in 2009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omparison: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imilariti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71240" y="2285640"/>
            <a:ext cx="6629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Secondly, the reasons for buil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the two dams are the same, that is,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prevent flood and produce electric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abu_sim8" descr=""/>
          <p:cNvPicPr/>
          <p:nvPr/>
        </p:nvPicPr>
        <p:blipFill>
          <a:blip r:embed="rId1"/>
          <a:stretch/>
        </p:blipFill>
        <p:spPr>
          <a:xfrm>
            <a:off x="1447920" y="971640"/>
            <a:ext cx="6705360" cy="50292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omparison: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imilar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371240" y="2514600"/>
            <a:ext cx="61722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Finally, the problems of building the two dams are almost the same. Both of the two projects need to move people and some historical si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omparison: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ifferen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752120" y="2743200"/>
            <a:ext cx="58676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There are also some differences between the two da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omparison: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ifferen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752480" y="2438280"/>
            <a:ext cx="56390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First, the Aswan High Dam lies on the River Nile, while the Three Gorges Dam is on the Yangtze Riv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omparison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:Differences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752120" y="243828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Secondly, the Aswan High Dam was finished in 1970, while the Three Gorges Dam will be completed in 2009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228600" y="1523880"/>
            <a:ext cx="8458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2286000"/>
            <a:ext cx="65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1. P 92,  Ex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BS00554_" descr=""/>
          <p:cNvPicPr/>
          <p:nvPr/>
        </p:nvPicPr>
        <p:blipFill>
          <a:blip r:embed="rId1"/>
          <a:stretch/>
        </p:blipFill>
        <p:spPr>
          <a:xfrm>
            <a:off x="5562720" y="1371600"/>
            <a:ext cx="1904760" cy="171756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1298160" y="1116000"/>
            <a:ext cx="260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Home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143000" y="3048120"/>
            <a:ext cx="6934320" cy="20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2.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Write a passage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ompare the Three Gorg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Dam with Aswan High D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ABU-R2" descr=""/>
          <p:cNvPicPr/>
          <p:nvPr/>
        </p:nvPicPr>
        <p:blipFill>
          <a:blip r:embed="rId1"/>
          <a:stretch/>
        </p:blipFill>
        <p:spPr>
          <a:xfrm>
            <a:off x="1143000" y="750960"/>
            <a:ext cx="702468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at is the film abou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32000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19320" y="1523880"/>
            <a:ext cx="69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ccff"/>
                </a:solidFill>
                <a:latin typeface="Times New Roman"/>
              </a:rPr>
              <a:t>Answer the questio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295280" y="762120"/>
            <a:ext cx="647712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5T17:04:02Z</dcterms:created>
  <dc:creator>GuoMei</dc:creator>
  <dc:description/>
  <dc:language>en-US</dc:language>
  <cp:lastModifiedBy>Zhang Lingdi</cp:lastModifiedBy>
  <dcterms:modified xsi:type="dcterms:W3CDTF">2003-06-10T09:25:04Z</dcterms:modified>
  <cp:revision>501</cp:revision>
  <dc:subject/>
  <dc:title>PowerPoint 演示文稿</dc:title>
</cp:coreProperties>
</file>